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912A-7FF9-43A0-B6CA-88DF97FF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32DB-2D76-4115-9E60-AAF44588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047B-2DD5-4B82-9A7A-EE4ED549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6B08-8E49-4D28-807B-7B3F1139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4E3B-7E91-47A8-B7D8-4CEC7475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039C-9580-4B7F-B233-E6D64D2B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60B4-E9A6-4D7B-B7A2-715A6071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A6AE-8602-45E0-923A-8B09DD8B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A48F-70D1-4690-B8D6-F1BE4555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18FF-AE24-47A1-9A37-C276565E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CB4B-44B0-474F-B3C4-AE55436B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0E05-C92E-41D1-B09A-39BB784F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6A98-5B3E-41D0-A897-DCFFF4300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52600" y="2052720"/>
            <a:ext cx="44388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1:13:41Z</dcterms:created>
  <dc:creator>WinuE</dc:creator>
  <dc:description/>
  <dc:language>en-US</dc:language>
  <cp:lastModifiedBy>WinuE</cp:lastModifiedBy>
  <dcterms:modified xsi:type="dcterms:W3CDTF">2010-06-29T01:13:56Z</dcterms:modified>
  <cp:revision>1</cp:revision>
  <dc:subject/>
  <dc:title>Diapositiva 1</dc:title>
</cp:coreProperties>
</file>